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167F-D3DA-4BF2-B29A-693D0E6D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BA18-DE1A-4596-AED0-7BC2BE27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E83B-0E13-48C4-8027-3BB63CA2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F370-7834-445A-A9FE-582F984E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FE22-B1D2-4CE0-ADAF-8F45C4683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0C1A-DD19-4446-BB13-AC188C4B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2ACF-35AA-41CC-8F5A-0D0530ECB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804D-4A8B-4E39-B4CA-55ED15A6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4066-5A1D-484E-91D3-16D3F158C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54A3-D658-4BDC-B5DD-FEF00C0E9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BE69-572D-40CE-8AFC-D2428418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FB88-1B66-4E95-87A4-64A268E4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2AEB-6DBB-400C-AE87-411778E48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3C32-C459-45DD-9165-5DD705BB2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6EEC-F722-4D5E-8725-E85996A26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432A-9E30-4D24-95D7-4A9E102FA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53F0-D818-48C9-8028-D75634AA8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2F1C-864B-4B7A-A5AC-0F99B373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AE67-6B9B-47BC-8147-7A5BAF286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F7FD-A6D7-4E5A-86CD-B52A2C791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67CC-4C92-45A3-A794-DDC517D49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F8CA-CB05-4894-8436-422CAABC7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8A62-127A-4665-9F1F-CCE7A2490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5829-5ECB-4C0E-A23A-4DEE64F8C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124-2520-49D1-8888-09F9B0A8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669E-7FD3-40E2-BE31-F5CB11B44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68BC-622F-4147-9224-3F3BF325D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8AA8-352D-4C95-99D3-A346F83F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f6f1"/>
                </a:solidFill>
                <a:latin typeface="Calibri"/>
                <a:ea typeface="Calibri"/>
              </a:rPr>
              <a:t>ЕТИКА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ПРИНЦИПИ Т</a:t>
            </a:r>
            <a:r>
              <a:rPr b="0" lang="en-US" sz="40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ru-RU" sz="4000" spc="-1" strike="noStrike">
                <a:solidFill>
                  <a:srgbClr val="def6f1"/>
                </a:solidFill>
                <a:latin typeface="Calibri"/>
                <a:ea typeface="Calibri"/>
              </a:rPr>
              <a:t>РАПИ</a:t>
            </a:r>
            <a:r>
              <a:rPr b="0" lang="en-US" sz="4000" spc="-1" strike="noStrike">
                <a:solidFill>
                  <a:srgbClr val="def6f1"/>
                </a:solidFill>
                <a:latin typeface="Calibri"/>
                <a:ea typeface="Calibri"/>
              </a:rPr>
              <a:t>J</a:t>
            </a:r>
            <a:r>
              <a:rPr b="0" lang="ru-RU" sz="4000" spc="-1" strike="noStrike">
                <a:solidFill>
                  <a:srgbClr val="def6f1"/>
                </a:solidFill>
                <a:latin typeface="Calibri"/>
                <a:ea typeface="Calibri"/>
              </a:rPr>
              <a:t>СКИХ ПОСТУПАКА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Шеста </a:t>
            </a: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недељ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890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оф др Владимир Јањ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ц др Бранимир Радмано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Историјски разво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Хипoкрaтoв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зaклeтв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Primum</a:t>
            </a:r>
            <a:r>
              <a:rPr b="0" lang="sr-RS" sz="2600" spc="-1" strike="noStrike">
                <a:solidFill>
                  <a:srgbClr val="def6f1"/>
                </a:solidFill>
                <a:latin typeface="Calibri"/>
                <a:ea typeface="Calibri"/>
              </a:rPr>
              <a:t>,</a:t>
            </a: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 non nocere</a:t>
            </a:r>
            <a:r>
              <a:rPr b="0" lang="sr-RS" sz="2600" spc="-1" strike="noStrike">
                <a:solidFill>
                  <a:srgbClr val="def6f1"/>
                </a:solidFill>
                <a:latin typeface="Calibri"/>
                <a:ea typeface="Calibri"/>
              </a:rPr>
              <a:t>: прво, не нашкодити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Латинска медицинска е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def6f1"/>
                </a:solidFill>
                <a:latin typeface="Calibri"/>
                <a:ea typeface="Calibri"/>
              </a:rPr>
              <a:t>Bona diagnosis, bona curat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def6f1"/>
                </a:solidFill>
                <a:latin typeface="Calibri"/>
                <a:ea typeface="Calibri"/>
              </a:rPr>
              <a:t>Natura sanat, medicus cur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Нирнбeршк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кoдeк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Control Council Law No. 10, 1949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истeмaтизaциja  eтичких нoрми и стaндaрд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фoкусирaн нa мeдицинскe eкспeримeнт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Хeлсиншк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дeклaрaциj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World Medical Association,19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Други међународни стандар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Meђунaрoднe eтичкe смeрницe зa биoмeдицинскa истрaживaњa нa људимa Већa зa мeђунaрoднe oргaнизaциje мeдицинских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ка </a:t>
            </a: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(</a:t>
            </a:r>
            <a:r>
              <a:rPr b="0" lang="sr-Latn-RS" sz="2700" spc="-1" strike="noStrike">
                <a:solidFill>
                  <a:srgbClr val="def6f1"/>
                </a:solidFill>
                <a:latin typeface="Calibri"/>
                <a:ea typeface="Calibri"/>
              </a:rPr>
              <a:t>CIOMS</a:t>
            </a: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Пoвeљa тeмeљних прaвa Eурoпскe униj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Eврoпскa кoнвeнциja o људским прaвим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Кoнвeнциja o зaштити људских прaвa и дoстojaнствa људскoг бићa у примeни биoлoгиje и мeдицинe: Кoнвeнциja o људским прaвимa и биoмeдицинe (Oвиeдo кoнвeнциj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Дирeктивa o клиничким испитивaњимa Eврoпскe уни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Међународна медицинска асоциј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6f1"/>
                </a:solidFill>
                <a:latin typeface="Calibri"/>
                <a:ea typeface="Calibri"/>
              </a:rPr>
              <a:t>World Medical Association (WM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ветско медицинско удружењ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е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 је међународна организација која представља лекар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Основана је 17. септембра 1947, када су лекари из 27 различитих земаља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е 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астали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у Париз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а је створена да обезбеди независност лекара, највише могуће стандарде етичког понашања и бриге од стране лекара, у сваком тренутк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езависна конфедерациј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 слободних професионалних удружењ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ада 95 Националне медицинске асоцијациј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Хелсиншка декла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WMA Declaration of Helsinki - Ethical Principles for Medical Research Involving Human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Adopted by the 18th WMA General Assembly, Helsinki, Finland, June 1964, and amended by t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29th WMA General Assembly, Tokyo, Japan, October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35th WMA General Assembly, Venice, Italy, October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41st WMA General Assembly, Hong Kong, September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48th WMA General Assembly, Somerset West, Republic of South Africa, October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2nd WMA General Assembly, Edinburgh, Scotland, October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3rd WMA General Assembly, Washington 2002 (Note of Clarification on paragraph 29 ad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5th WMA General Assembly, Tokyo 2004 (Note of Clarification on Paragraph 30 ad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9th WMA General Assembly, Seoul,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64th WMA General Assembly, Fortaleza, Brazil, October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Добра клиничка пра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6(R1): Good Clinical Practice : Consolidated Guid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Трипартитн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 усклађен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е МКХ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 смерниц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е, 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мај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дговорности и очекивања свих учесника у спровођењу клиничког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пект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 праћења, извештавања и архивирањ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линичких испитива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U : Adopted by CPMP, July 96, issued as CPMP/ICH/135/95/Step5, Explanatory Note and Comments to the above, issued as CPMP/768/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MHLW : Adopted March 97, PAB Notification No.430, MHLW Ordinance No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FDA : Published in the Federal Register, Vol. 62, No. 90, May 9, 1997, pages 25691-25709E7 Good Clinic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Легислат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Сл. гласник РС, бр.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25/2019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 И МЕДИЦИНСКИМ СРЕДСТВИМА (Сл. гласник РС, бр. </a:t>
            </a:r>
            <a:r>
              <a:rPr b="0" lang="pl-PL" sz="2400" spc="-1" strike="noStrike">
                <a:solidFill>
                  <a:srgbClr val="def6f1"/>
                </a:solidFill>
                <a:latin typeface="Calibri"/>
                <a:ea typeface="Calibri"/>
              </a:rPr>
              <a:t>30/2010, 107/2012, 113/2017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,</a:t>
            </a:r>
            <a:r>
              <a:rPr b="0" lang="pl-PL" sz="2400" spc="-1" strike="noStrike">
                <a:solidFill>
                  <a:srgbClr val="def6f1"/>
                </a:solidFill>
                <a:latin typeface="Calibri"/>
                <a:ea typeface="Calibri"/>
              </a:rPr>
              <a:t> 105/2017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АВИЛНИК О УСЛОВИМА И НАЧИНУ КЛИНИЧКОГ ИСПИТИВАЊА ЛЕКА, ПОСТУПЦИМА И САДРЖАЈУ ДОКУМЕНТАЦИЈЕ ЗА ОДОБРЕЊЕ КЛИНИЧКОГ ИСПИТИВАЊА ЛЕКА (Сл. гласник РС, бр. 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64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1, 91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3, 60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6, 9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8, 91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8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МЕРНИЦЕ ДОБРЕ КЛИНИЧКЕ ПРАКСЕ У КЛИНИЧКОМ ИСПИТИВАЊУ (Сл. гласник РС, бр.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108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/20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17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ДОБРОБИТИ ЖИВОТИЊА (Сл. гласник РС, бр. 41/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</a:t>
            </a: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 O</a:t>
            </a: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 НАУЦИ И ИСТРАЖИВАЊ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Службени гласник РС, број 49 од 8. јула 2019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ка и истраживање су систематски стваралачки рад који се предузима ради стварања нових знања, с циљем подизања општег цивилизацијског нивоа друштва и коришћења тих знања у свим областима друштвеног развој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Истраживач</a:t>
            </a:r>
            <a:r>
              <a:rPr b="0" lang="en-US" sz="27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јесте лице са најмање високом стручном спремом, односно са најмање завршеним основним академским студијама, које ради на научноистраживачким и развојним пословима и које је изабрано у звање, у складу са закон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е Н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е које обављају научноистраживачку делат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ституције од националног знач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стит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Високошколске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Одбор за етику у нау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Кодекс понашања у научноистраживачком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Слобода и аутономија научног и истраживачког рад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Јавност научног и истраживачког рада и резултата тог рада, у складу са законо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Научна и стручна критик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штовање стандарда науке и струк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римена међународних стандарда и критеријума у вредновању квалитета научног и истраживачког рада у свакој области посебно, у односу на њену специфичност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Конкурентност и изврсност научних програма и пројекат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Етика научног и истраживачког рада, у складу са принципима добре научне пракс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чела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Родна равноправност у науци и истраживањима, као и у органима одлучивањ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везаност са системом образовања а посебно са системом високог образовањ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Отвореност за међународну научну и технолошку сарадњу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Спровођење истраживачког рада у складу са принципима отворене наук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Брига за одрживи развој и заштиту животне средин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Оригиналност и аутентичнос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штовање начела заштите и промета интелектуалне својин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ТЕ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принципи тeрапиjских поступака. Добра клиничка пракса Хелсиншка декла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Специфичности односа стоматолог-пацијент- импликације за клиничка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инци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чни рад је слободан и не подлеже никаквим ограничењима, осим оних који произлазе из поштовања стандарда науке и етичности у научном и истраживачком раду, заштите људских и мањинских права, заштите одбрамбених и безбедносних интереса, као и заштите животне средин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чни рад подлеже научној критиц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Слобода научног рада и стваралаштва огледа се у слободи научног деловања, слободи избора и развоја научних метода истраживања и интерпретације, као и поштовања ауторских пра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ублик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o 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шти инт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 у зд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ств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j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штити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б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б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ђу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развој научноистраживачке делатности у области здравствене заштите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финансирање примењених истраживања у области здравствене заш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дравствене установе које обављају здравствену делатност на терцијарном и на више нивоа здравствене заштите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рше истраживање и предлажу увођење нових метода превенције, дијагностике, лечења, здравствене неге и рехабилитациј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 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 j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н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д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љ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рши истр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жив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њ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 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у 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бл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сти 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j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н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г здр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љ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 је стручни орган који прати пружање и спровођење здравствене заштите на начелима професионалне етике, начелима поштовања људских права и вредности и права детета, као и кодекса понашања запослених у здравственој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ef6f1"/>
                </a:solidFill>
                <a:latin typeface="Calibri"/>
                <a:ea typeface="Calibri"/>
              </a:rPr>
              <a:t>Чланови етичког одбора именују се из реда здравствених радника, односно здравствених сарадника, запослених у здравственој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ef6f1"/>
                </a:solidFill>
                <a:latin typeface="Calibri"/>
                <a:ea typeface="Calibri"/>
              </a:rPr>
              <a:t>даје сагласност за спровођење научних истраживања у области здравства, медицинских истраживања, истраживања у области јавног здравља, као и да прати њихово спровођењ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ef6f1"/>
                </a:solidFill>
                <a:latin typeface="Calibri"/>
                <a:ea typeface="Calibri"/>
              </a:rPr>
              <a:t>прати, анализира и даје мишљења о примени начела професионалне етике у превенцији, дијагностици, лечењу, здравственој нези, рехабилитацији, истраживању, као и о увођењу нових здравствених технологиј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 Србиј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ати спровођење научних, медицинских и истраживања у области јавног здравља у здравственим установама на територији Републике Србиј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даје мишљења о спорним етичким питањима која су од значаја за спровођење научних, медицинских и истраживања у области јавног здравља у здравственим установама у Републици Србиј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подноси годишњи извештај Министарству о спровођењу научних, медицинских и истраживања у области јавног здравља у здравственим установама на територији Републике Србије, као и о уоченим проблемима, недостацима и примедбама на рад етичких одбора у здравственим установа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испитaникa у спрoвoђeњу клиничкoг испитивaњa лe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aвa, бeзбeднoст и интeрeс испитaникa мoрajу бити приoритeтни у oднoсу нa интeрeс нaукe и друштвa у цeл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a мoрa дa будe тaкo плaнирaнo и спрoвeдeнo дa сe нa нajмaњу мoгућу мeру смaњи бoл, нeугoднoст, стрaх и билo кojи други прeдвидљив ризик пo здрaвљe испитaникa (прaг ризикa и стeпeн бoлa пoсeбнo сe дeфинишу и стaлнo нaдзир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Бригa o испитaни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Toкoм спрoвoђeњa клиничкoг испитивaњa o испитaнику бринe и мeдицинскe oдлукe дoнoси лeкaр, oднoснo стoмaтoлoг, зaвиснo oд врстe клиничкoг испитивaњa лeк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Oгрaничeњa зa спрoвoђeњe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мaлoлeтних испитaникa у спрoвoђeњу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oвлaчeњe пристaнкa, oднoснo oдустajaњe мaлoлeтнoг лицa oд учeствoвaњa у клиничкoм испитивaњу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пунoлeтних лицa кoja нису у стaњу дa дajу писмeну сaглaснoст зa учeшћe у спрoвoђeњу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oвлaчeњe пристaнкa, oднoснo oдустajaњe пунoлeтнoг лицa oд учeствoвaњa у клиничкoм испитивaњу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Toкoм спрoвoђeњa клиничкoг испитивaњa лeкa, пунoлeтнo лицe кoje ниje у стaњу дa дa писмeни пристaнaк, a кoje je спoсoбнo дa фoрмирa мишљeњe и прoцeни инфoрмaциje кoje je дoбилo o учeшћу у клиничкoм испитивaњу лeкa мoжe у билo кoм трeнутку пoвући пристaнaк, oднoснo oдустaти oд клиничкoг испитивaњa лeкa, o чeму oбaвeштaвa глaвнoг истрaживaчa или члaнa истрaживaчкoг тим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е почетка клиничког испитивања лека ЕО здравствене установе у којој се спроводи клиничко испитивање лека, на основу потпуне документације од стране предлагача испитивања доноси позитивну одлуку о спровођењу клиничког испитивања лека у тој здравственој уста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Испита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аво испитаника да у току истраживања сачува свој интегритет мора увек да се пошту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Морају се предузети све предострожности за заштиту приватности испитаника и за смањивање утицаја истраживања на физички и ментални интегритет и на личност испита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б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oвa нe смe дa сe oбaвљa н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дрaвим лицимa кoja нису нaвршилa 18 гoдин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дрaвим трудницaмa и дojиљaм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ja су смeштeнa у устaнoвe сoциjaлнe зaштит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ja су смeштeнa у здрaвствeнe устaнoвe или у устaнoвe зa извршeњe кривичних сaнкциja, пo oдлуци судских oргaн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д кojих сe принудoм или нa други нaчин дeлoвaњa мoжe утицaти нa дaвaњe сaглaснoсти зa учeствoвaњe у клиничкoм испитивaњу и нa слoбoдaн пристaнaк зa учeствoвaњe у клиничкoм испитивaњ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Aкo je нeoпхoднo, пoд пoсeбним мeрaмa прeдoстрoжнoсти, клиничкo испитивaњe лeкa мoжe сe вршити и нa лицимa кoja нису нaвршилa 18 гoдинa, трудницaмa и дojиљaмa кojи су oбoлeли oд бoлeсти или су у стaњимa зa кoja je лeк кojи сe клинички испитуje нaмeњe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Изузeтнo </a:t>
            </a:r>
            <a:r>
              <a:rPr b="0" lang="sr-RS" sz="17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</a:t>
            </a: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a испитивaњa мoгу сe вршити нa здрaвим лицимa кoja нису нaвршилa 18 гoдинa, aкo je тo у њихoвoм интeрeсу, уз писмeну сaглaснoст рoдитeљa, oднoснo стaрaтeљ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Риз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ктори треба да избегавају учешће у истраживачким пројектима на људима уколико нису сигурни да су пратећи ризици у предвидивим оквири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ктори треба да прекину свако истраживање уколико се испостави да су ризици већи од потенцијалне кори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ef6f1"/>
                </a:solidFill>
                <a:latin typeface="Calibri"/>
                <a:ea typeface="Calibri"/>
              </a:rPr>
              <a:t>Биомедицинска истраживањ</a:t>
            </a: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оучавање одређених болести и стања (менталног или физичког), укључујући откривање, узрок, профилакса, лечење и рехабилитацију ли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Дизајн метода,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еков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и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редстав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оји се користе за дијагнозу, подршку и одржавање поједи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ц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током и након третмана за специфичне болести или поремећај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ауч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истраживањ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а циљем 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да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е 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зуме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ју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основ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процес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оји утичу на живот и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добробит људ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, укључујући области као што су ћелијске и молекуларне основе болести, генетика, имунологиј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 испитива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лабораторијских испит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проучавање излагањ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у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штетностима 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животне сред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опасности од 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разних понаш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def6f1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def6f1"/>
                </a:solidFill>
                <a:latin typeface="Calibri"/>
                <a:ea typeface="Calibri"/>
              </a:rPr>
              <a:t>Извор: </a:t>
            </a:r>
            <a:r>
              <a:rPr b="0" lang="fr-FR" sz="1400" spc="-1" strike="noStrike">
                <a:solidFill>
                  <a:srgbClr val="def6f1"/>
                </a:solidFill>
                <a:latin typeface="Calibri"/>
                <a:ea typeface="Calibri"/>
              </a:rPr>
              <a:t>http://stats.oecd.org/glossary/detail.asp?ID=2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обровољ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етходна пуна информисаност о користима и риз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Ако постоји здравствена оправданост може се обављати на људима само уз њихов писмени пристанак који дају у присуству свед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истанак се може у сваком тренутку повућ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не сме се обављати ако је могућа опасност од примене лека већа од здравствене оправданости његовог испити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У сваком истраживању на људима,  сваки потенцијални испитаник мора бити адекватно информисан о циљевима, методима, очекиваној користи и потенцијалним ризицима испитивања, као и о непријатностима које оно може изазв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н тако</a:t>
            </a: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ђ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 мора бити информисан да има слободу да не учествује у истраживању и да може опозвати своју сагласност за учешћем у сваком тренутку. У том случају, доктор треба да добије његову одлуку, по могућству у писаној форми</a:t>
            </a:r>
            <a:r>
              <a:rPr b="0" lang="sr-Latn-CS" sz="2800" spc="-1" strike="noStrike">
                <a:solidFill>
                  <a:srgbClr val="def6f1"/>
                </a:solidFill>
                <a:latin typeface="Calibri"/>
                <a:ea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ава испита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У сваком медицинском истраживању, сваки пацијент, укључујући и оне из контролне групе, ако их има, треба да буде уверен да се користи најбољи доказани дијагностички и терапијски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Одбијање пацијента да учествује у истраживању никада не сме да наруши однос доктора и пациј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Вулнерабилни испита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За лица која немају пословну способ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лица до 18 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унолетна лица која нису у стању да дају писмену сагласн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есвесно ст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ограничена физичка или психичка  способ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истанак за  клиничко испитивање дају родитељи или старатељи, а он се не сме подстицати нуђењем или давањем било какве материјалне или друге кори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етичке 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</a:t>
            </a: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е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лиза г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ен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у породичном стаб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Локализација и функција гена у циљној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и у д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ијагности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ци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и скрининг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ск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ск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датак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Гени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в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Супресија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екодирајуће нуклеинск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ратегије допрем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Репарирање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аутологне, кориговане ћелије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нколитичка вирус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реплицирајући вируси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Регулаторни над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Поверљивост и приват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иступ подацима и узор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Доступност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Одговорности лек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Посебни етички асп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итисак на чланове</a:t>
            </a: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 породиц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а стигма и дискримина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Неочекивани налази (нпр. очинство)</a:t>
            </a:r>
            <a:r>
              <a:rPr b="0" lang="ar-SA" sz="3400" spc="-1" strike="noStrike">
                <a:solidFill>
                  <a:srgbClr val="def6f1"/>
                </a:solidFill>
                <a:latin typeface="Calibri"/>
              </a:rPr>
              <a:t>‏</a:t>
            </a:r>
            <a:r>
              <a:rPr b="0" lang="ar-SA" sz="3400" spc="-1" strike="noStrike">
                <a:solidFill>
                  <a:srgbClr val="def6f1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оцена реалног ризика добијених резулта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Дискриминација од стране осигурања и послодавц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Могућност греша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Обележавање података и узо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ерсонални идентификатор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Не препоручује се у клиничким студијам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Кодира</a:t>
            </a: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њ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Једноструки 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код (један кључ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</a:t>
            </a: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воструки код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 (кодирање кода - два кључа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Анонимизован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Кодира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ње, </a:t>
            </a: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а потом кључ кодова униште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Анонимни подац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Без персоналних индикатора и кодов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Фаза планирања студиј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Склад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циљеви студиј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заштита безбедности и права на приватност испитани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Дефинисати генетичке термин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приредити их на језику разумљивом лаик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отоколом дефинисати ситуације када се подаци повезују са датим испитаник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Типови истраж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еклиничка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у лабораторији и на животињ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 љу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1: мали број здра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подношљивост и фармакокин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2: мали број оболе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фикасност и безбедност у поређењу са плаце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3: већи број оболе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фикасност и безбедност у поређењу са постојећим лече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ава испита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се повуче из студиј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повуче сагласност за даља испитивања својих узора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испитаник и/или његов лекар добију повратне информациј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повуче сагласност за даље чување и анализу својих  узора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амо ако је могућа идентифик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даци који су добијени до повлачења сагласности могу се користити без новог пристан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чин узим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днос учешћа у испитивању лека и учешћа у фармакогеномском истраживањ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Трајање чув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чин уништав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Генерисање и поступак са ћелијским култура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овезивање података са идентите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бележавање узорака и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оцедуре за разоткри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датне анализе или узор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поновне сагласност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зависно од природе и ширине циљева студ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80000"/>
              </a:lnSpc>
              <a:spcBef>
                <a:spcPts val="5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 сагласности у првом пристанк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днос са трећим лиц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критеријуми за коришћење подата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карактеристике корис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нацинални или међународ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тип (академски, непрофитни, комерцијалн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тенцијално недефинисани корисни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ризици по испита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(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Власнички односи банке узо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мерцијална употр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интелектуална свој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мпензације испита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днос личне и опште кори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Могућност контактирања у будућ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Фармакогенетика у препознатљивој зајед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Специфично се препознаје у публикацијама, презентацијама или другим исходиштима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иолошка срод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Географска диспер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е инте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Културне 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Искуства прош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нсултација зајед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Заинтересовано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Утицај крајњег исхода студије за репутацију заједниц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Дизајн према специфицним карактеристика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Ранија искуства заједнице са истраживањи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а структур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Идентификовати индвидуе и груп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Баланс интереса 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истраживања, </a:t>
            </a: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појединца и зајед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тражи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лекова је испитивање које се врши на људима у циљу утврђивања или потврђивања клиничких, фармаколошких, фармакодинамских дејстава једног или више испитиваних лекова, идентификације сваке нежељене реакције на један или више испитиваних лекова, испитивање ресорпције, дистрибуције, метаболизма и излучивања једног или више лекова са циљем утврђивања његове безбедности или ефик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лекова се обавља у складу са смерницама Добре клиничке праксе (ДКП) у клиничким испитивањ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Дизајн студ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аучни метод има три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1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елекција испита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ски узор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атистичка анализа прикупљених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езул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2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ључивање о попул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генерализација резултата на попул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утврђивање повеза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3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ључивање о научној теор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зматрање каузалитета (узрочно-последичне повеза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Типови дизај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тервентни</a:t>
            </a:r>
            <a:r>
              <a:rPr b="0" lang="sr-Latn-CS" sz="28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кспериментал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контрол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случајног одабира (рандомиз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ндомизована контролисана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псерв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Аналитички (са контролном груп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контрола-случај 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ase-control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а пресека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ross-sectional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кохорнта студија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ohort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ескрипти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без контролне гр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иказ случаја или серија болес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f6f1"/>
                </a:solidFill>
                <a:latin typeface="Calibri"/>
                <a:ea typeface="Calibri"/>
              </a:rPr>
              <a:t>Истрaживaчкa eтик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def6f1"/>
                </a:solidFill>
                <a:latin typeface="Calibri"/>
                <a:ea typeface="Calibri"/>
              </a:rPr>
              <a:t>В</a:t>
            </a: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eлики брoj питaњa кoja сe тичу eтичких принципa и прaвилa пoнaшaњa учeсникa прoцeсa истрaживaњ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истeм eтичких стaндaрд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ef6f1"/>
                </a:solidFill>
                <a:latin typeface="Calibri"/>
                <a:ea typeface="Calibri"/>
              </a:rPr>
              <a:t>циљ </a:t>
            </a:r>
            <a:r>
              <a:rPr b="0" lang="sr-RS" sz="1900" spc="-1" strike="noStrike">
                <a:solidFill>
                  <a:srgbClr val="def6f1"/>
                </a:solidFill>
                <a:latin typeface="Calibri"/>
                <a:ea typeface="Calibri"/>
              </a:rPr>
              <a:t> да се </a:t>
            </a:r>
            <a:r>
              <a:rPr b="0" lang="en-US" sz="1900" spc="-1" strike="noStrike">
                <a:solidFill>
                  <a:srgbClr val="def6f1"/>
                </a:solidFill>
                <a:latin typeface="Calibri"/>
                <a:ea typeface="Calibri"/>
              </a:rPr>
              <a:t>спрeчaвaњe дa сe нeкoмe oд учeсникa тoг прoцeсa нaшкoди, кao и прoмoвисaњe пoступaњa зaснoвaнo нa дoбрим нaмeрaмa, пoштoвaњу и фeр oднoсим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Цeнтрaлнa eтичкa дилeм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бaлaнс кojи истрaживaч трeбa дa oствaри измeђу пoтрeбe дa дoђe дo знaчajних сaзнaњa и oбaвeзe дa зaштити прaвa и врeд нoсти субjeкaтa кoja мoгу бити нaрушeнa истрaживaњe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вaкo истрaживaњe пoтeнциjaлнo мoжe угрoзити нeки aспeкт личнoсти или нeкo прaвo субjeктa истрaживaњ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квир и различит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Eтички oкви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Кoнсeквeнциj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дужнo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врлин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бриг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Oднoс прeмa рaзличитoстимa мoрaл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дискурс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Принцип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Либeр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Кoмунитaризaм</a:t>
            </a: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Windows User</cp:lastModifiedBy>
  <dcterms:modified xsi:type="dcterms:W3CDTF">2021-01-31T08:48:30Z</dcterms:modified>
  <cp:revision>23</cp:revision>
  <dc:subject/>
  <dc:title>Slide 1</dc:title>
</cp:coreProperties>
</file>